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wmf" ContentType="image/x-wmf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277-CF8B-475A-A266-813847DC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92D-5AA8-4D59-B66F-FCCD44FE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93A-CCD8-4B3C-B5AF-85D90978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4A7-F64F-442D-B93B-3D7AA386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5D8-60B9-424E-BECD-DE43CD8F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78A-7993-43B0-8893-829549B4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F8D0-7B75-463A-BF68-A863B69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B3D1-202E-451F-A217-78701D81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361-67BD-4DE5-96FB-512E919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B755-CB06-47BE-8365-93301599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B894-B8CE-48EB-B529-E075696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7FA-AB7C-468F-91F3-28D157E2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321-7DAA-4EFD-9241-6147CDB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F2EA-4C4F-4B5F-9ECA-1FA17BC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DF9-309E-40B3-86AB-AEB68198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D73E-A703-428E-99DC-79EEE23E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0CFB-9A1F-4DE1-9A2D-AFBB996E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451-F253-41A4-AB3B-DD7E427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467-2A8C-4365-ADF4-7694A4B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CA9-CF2F-4832-B181-53CEFC6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3BC-FB38-4FF5-A13C-480C5A2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5F3-1FB7-44F9-AD8D-3085D4E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495-2E56-40B7-BB73-505708C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843-7D6C-4056-BB4E-54350221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1FE-E5D3-4092-B776-131DBEA5FC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9198-FBD4-4C69-BF62-15383937A2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wc.maricopa.edu/class/bio201/muscle/leg1.h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chrest.com/mmg/knee/knanat02.gif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00"/>
                </a:solidFill>
                <a:latin typeface="Arial"/>
              </a:rPr>
              <a:t>THE KNEE JOI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cles That Act On The Kn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6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7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Line 1028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034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035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37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38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ss section thigh"/>
          <p:cNvPicPr/>
          <p:nvPr/>
        </p:nvPicPr>
        <p:blipFill>
          <a:blip r:embed="rId1"/>
          <a:stretch/>
        </p:blipFill>
        <p:spPr>
          <a:xfrm>
            <a:off x="1335240" y="-9360"/>
            <a:ext cx="6505560" cy="666720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>
            <a:off x="3505320" y="228600"/>
            <a:ext cx="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2895480" y="3049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648320" y="304920"/>
            <a:ext cx="0" cy="16002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057400" y="838080"/>
            <a:ext cx="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219320" y="0"/>
            <a:ext cx="441936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6680" y="228600"/>
            <a:ext cx="1412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Verdana"/>
              </a:rPr>
              <a:t>Quadric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971800" y="3733920"/>
            <a:ext cx="4812480" cy="2730240"/>
            <a:chOff x="2971800" y="3733920"/>
            <a:chExt cx="4812480" cy="2730240"/>
          </a:xfrm>
        </p:grpSpPr>
        <p:sp>
          <p:nvSpPr>
            <p:cNvPr id="135" name="Rectangle 8"/>
            <p:cNvSpPr/>
            <p:nvPr/>
          </p:nvSpPr>
          <p:spPr>
            <a:xfrm>
              <a:off x="2971800" y="3733920"/>
              <a:ext cx="3352680" cy="2286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567240" y="46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3359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42152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355440" y="609588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Verdana"/>
                </a:rPr>
                <a:t>Hamstring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18"/>
          <p:cNvSpPr/>
          <p:nvPr/>
        </p:nvSpPr>
        <p:spPr>
          <a:xfrm>
            <a:off x="6553080" y="685800"/>
            <a:ext cx="2438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Vastus Later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stus Intermed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Rectus Femor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astus Medi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tical jum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elerating or eccentric contraction during landing or changing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group, they are typically 25-30% stronger than the ham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Posterior Kne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post thigh G"/>
          <p:cNvPicPr/>
          <p:nvPr/>
        </p:nvPicPr>
        <p:blipFill>
          <a:blip r:embed="rId1"/>
          <a:stretch/>
        </p:blipFill>
        <p:spPr>
          <a:xfrm>
            <a:off x="5486400" y="380880"/>
            <a:ext cx="22147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3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nee fl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ateral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1.) Long head - ischial tuberosity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2.) Short head - lower half of the linea asp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Head of the fib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icepsfemshort"/>
          <p:cNvPicPr/>
          <p:nvPr/>
        </p:nvPicPr>
        <p:blipFill>
          <a:blip r:embed="rId2"/>
          <a:stretch/>
        </p:blipFill>
        <p:spPr>
          <a:xfrm>
            <a:off x="4876920" y="533520"/>
            <a:ext cx="160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icepsfemshort"/>
          <p:cNvPicPr/>
          <p:nvPr/>
        </p:nvPicPr>
        <p:blipFill>
          <a:blip r:embed="rId1"/>
          <a:stretch/>
        </p:blipFill>
        <p:spPr>
          <a:xfrm>
            <a:off x="220968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bicepsfemlong"/>
          <p:cNvPicPr/>
          <p:nvPr/>
        </p:nvPicPr>
        <p:blipFill>
          <a:blip r:embed="rId2"/>
          <a:stretch/>
        </p:blipFill>
        <p:spPr>
          <a:xfrm>
            <a:off x="68580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iceps femoris"/>
          <p:cNvPicPr/>
          <p:nvPr/>
        </p:nvPicPr>
        <p:blipFill>
          <a:blip r:embed="rId3"/>
          <a:stretch/>
        </p:blipFill>
        <p:spPr>
          <a:xfrm>
            <a:off x="3429000" y="533520"/>
            <a:ext cx="2166840" cy="556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ost thigh G"/>
          <p:cNvPicPr/>
          <p:nvPr/>
        </p:nvPicPr>
        <p:blipFill>
          <a:blip r:embed="rId4"/>
          <a:stretch/>
        </p:blipFill>
        <p:spPr>
          <a:xfrm>
            <a:off x="6248520" y="838080"/>
            <a:ext cx="182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; super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semitendinosus"/>
          <p:cNvPicPr/>
          <p:nvPr/>
        </p:nvPicPr>
        <p:blipFill>
          <a:blip r:embed="rId1"/>
          <a:stretch/>
        </p:blipFill>
        <p:spPr>
          <a:xfrm>
            <a:off x="647712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ost thigh G"/>
          <p:cNvPicPr/>
          <p:nvPr/>
        </p:nvPicPr>
        <p:blipFill>
          <a:blip r:embed="rId1"/>
          <a:stretch/>
        </p:blipFill>
        <p:spPr>
          <a:xfrm>
            <a:off x="4648320" y="990720"/>
            <a:ext cx="182232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emitendinosus"/>
          <p:cNvPicPr/>
          <p:nvPr/>
        </p:nvPicPr>
        <p:blipFill>
          <a:blip r:embed="rId2"/>
          <a:stretch/>
        </p:blipFill>
        <p:spPr>
          <a:xfrm>
            <a:off x="289548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567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, deeper than semitendono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Muscles of the Knee Joi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nclass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artoriu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racili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opliteus - flexion (unlocking)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astrocnemius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ost thigh G"/>
          <p:cNvPicPr/>
          <p:nvPr/>
        </p:nvPicPr>
        <p:blipFill>
          <a:blip r:embed="rId1"/>
          <a:stretch/>
        </p:blipFill>
        <p:spPr>
          <a:xfrm>
            <a:off x="6629400" y="914400"/>
            <a:ext cx="159372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emimembranosus"/>
          <p:cNvPicPr/>
          <p:nvPr/>
        </p:nvPicPr>
        <p:blipFill>
          <a:blip r:embed="rId2"/>
          <a:stretch/>
        </p:blipFill>
        <p:spPr>
          <a:xfrm>
            <a:off x="685800" y="457200"/>
            <a:ext cx="145080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semit semim"/>
          <p:cNvPicPr/>
          <p:nvPr/>
        </p:nvPicPr>
        <p:blipFill>
          <a:blip r:embed="rId3"/>
          <a:stretch/>
        </p:blipFill>
        <p:spPr>
          <a:xfrm>
            <a:off x="1895400" y="609480"/>
            <a:ext cx="40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AMSTRING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“knee flexors” than “hip extender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muscles during ru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ght hamstring muscles can contribute to lower back, hip and kne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: Pubis c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: Anterior medial surface of the (Pes anserine Tend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ed-knee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144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5" name="Picture 7" descr="medial-knee"/>
          <p:cNvPicPr/>
          <p:nvPr/>
        </p:nvPicPr>
        <p:blipFill>
          <a:blip r:embed="rId2"/>
          <a:stretch/>
        </p:blipFill>
        <p:spPr>
          <a:xfrm>
            <a:off x="5562720" y="3200400"/>
            <a:ext cx="3581280" cy="318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sterior at the knee j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superior spine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(Pes anserine Tend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at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bduction of 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(hackey sa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7543800" y="1143000"/>
            <a:ext cx="990720" cy="7621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3505320"/>
            <a:ext cx="1143000" cy="121896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6934320" y="3429000"/>
            <a:ext cx="838080" cy="129528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artoriusAnterior"/>
          <p:cNvPicPr/>
          <p:nvPr/>
        </p:nvPicPr>
        <p:blipFill>
          <a:blip r:embed="rId1"/>
          <a:stretch/>
        </p:blipFill>
        <p:spPr>
          <a:xfrm>
            <a:off x="3581280" y="1143000"/>
            <a:ext cx="1432080" cy="518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sartorius"/>
          <p:cNvPicPr/>
          <p:nvPr/>
        </p:nvPicPr>
        <p:blipFill>
          <a:blip r:embed="rId2"/>
          <a:stretch/>
        </p:blipFill>
        <p:spPr>
          <a:xfrm>
            <a:off x="1752480" y="1219320"/>
            <a:ext cx="1371600" cy="535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anterior leg"/>
          <p:cNvPicPr/>
          <p:nvPr/>
        </p:nvPicPr>
        <p:blipFill>
          <a:blip r:embed="rId3"/>
          <a:stretch/>
        </p:blipFill>
        <p:spPr>
          <a:xfrm>
            <a:off x="5334120" y="457200"/>
            <a:ext cx="1682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rigin: Lateral condyle of the fem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sertion: Proximal medial ti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t "unlocks" the kn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1143000" y="1852560"/>
            <a:ext cx="6858000" cy="3063960"/>
            <a:chOff x="1143000" y="1852560"/>
            <a:chExt cx="6858000" cy="3063960"/>
          </a:xfrm>
        </p:grpSpPr>
        <p:sp>
          <p:nvSpPr>
            <p:cNvPr id="187" name="Rectangle 6"/>
            <p:cNvSpPr/>
            <p:nvPr/>
          </p:nvSpPr>
          <p:spPr>
            <a:xfrm>
              <a:off x="1143000" y="1852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143000" y="1852560"/>
              <a:ext cx="247968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8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Gastrocnem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:  medial and lateral femoral cond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ane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rough the Achilles tend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371600" cy="6338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058960" y="6491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334120" y="388620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uperficial Leg Mus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OUT YOUR THREE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NEXT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42674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sartorius"/>
          <p:cNvPicPr/>
          <p:nvPr/>
        </p:nvPicPr>
        <p:blipFill>
          <a:blip r:embed="rId1"/>
          <a:stretch/>
        </p:blipFill>
        <p:spPr>
          <a:xfrm>
            <a:off x="7086600" y="838080"/>
            <a:ext cx="1371600" cy="535968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3962520" y="114300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Ink 7" descr=""/>
          <p:cNvPicPr/>
          <p:nvPr/>
        </p:nvPicPr>
        <p:blipFill>
          <a:blip r:embed="rId2"/>
          <a:stretch/>
        </p:blipFill>
        <p:spPr>
          <a:xfrm>
            <a:off x="8028000" y="2635200"/>
            <a:ext cx="293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Term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later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the medi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Anterior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nee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038120"/>
            <a:ext cx="5410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5567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knee ligaments"/>
          <p:cNvPicPr/>
          <p:nvPr/>
        </p:nvPicPr>
        <p:blipFill>
          <a:blip r:embed="rId1"/>
          <a:stretch/>
        </p:blipFill>
        <p:spPr>
          <a:xfrm>
            <a:off x="42670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343400" y="2362320"/>
            <a:ext cx="12193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934320" y="2743200"/>
            <a:ext cx="1447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69339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7315200" y="3581280"/>
            <a:ext cx="1371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1"/>
          <p:cNvSpPr/>
          <p:nvPr/>
        </p:nvSpPr>
        <p:spPr>
          <a:xfrm flipH="1">
            <a:off x="7238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7238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038120"/>
            <a:ext cx="5257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492120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semitendinosus"/>
          <p:cNvPicPr/>
          <p:nvPr/>
        </p:nvPicPr>
        <p:blipFill>
          <a:blip r:embed="rId1"/>
          <a:stretch/>
        </p:blipFill>
        <p:spPr>
          <a:xfrm>
            <a:off x="7238880" y="83808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Knee4"/>
          <p:cNvPicPr/>
          <p:nvPr/>
        </p:nvPicPr>
        <p:blipFill>
          <a:blip r:embed="rId1"/>
          <a:stretch/>
        </p:blipFill>
        <p:spPr>
          <a:xfrm>
            <a:off x="1981080" y="2133720"/>
            <a:ext cx="5181840" cy="3708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1905120" y="43434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72200" y="426708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752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324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733920" y="2057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962520" y="4876920"/>
            <a:ext cx="1600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33520" y="15228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Lateral menis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= 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= Medial menisc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Geneva"/>
              </a:rPr>
              <a:t>2 = Vastus later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 = Rectus femo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eneva"/>
              </a:rPr>
              <a:t>4 = Vastus medi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ame the colored muscl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355680"/>
            <a:ext cx="77691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7" name="Picture 3" descr="femd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emv"/>
          <p:cNvPicPr/>
          <p:nvPr/>
        </p:nvPicPr>
        <p:blipFill>
          <a:blip r:embed="rId2"/>
          <a:stretch/>
        </p:blipFill>
        <p:spPr>
          <a:xfrm>
            <a:off x="304920" y="1752480"/>
            <a:ext cx="4317840" cy="431820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>
            <a:off x="2819160" y="5029200"/>
            <a:ext cx="609480" cy="6094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943600" y="5181480"/>
            <a:ext cx="685800" cy="685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76520" y="5334120"/>
            <a:ext cx="4572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7086240" y="5105520"/>
            <a:ext cx="60948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9"/>
          <p:cNvSpPr/>
          <p:nvPr/>
        </p:nvSpPr>
        <p:spPr>
          <a:xfrm flipV="1">
            <a:off x="6934320" y="5791320"/>
            <a:ext cx="0" cy="76176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19720" y="1522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322960" y="18432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Intercondylar fossa</a:t>
            </a: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- flexion at the kn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250" name="Line 5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Ink 7" descr=""/>
          <p:cNvPicPr/>
          <p:nvPr/>
        </p:nvPicPr>
        <p:blipFill>
          <a:blip r:embed="rId2"/>
          <a:stretch/>
        </p:blipFill>
        <p:spPr>
          <a:xfrm>
            <a:off x="7912080" y="4902120"/>
            <a:ext cx="3301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ib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4" name="Picture 3" descr="tibiaupant"/>
          <p:cNvPicPr/>
          <p:nvPr/>
        </p:nvPicPr>
        <p:blipFill>
          <a:blip r:embed="rId1"/>
          <a:stretch/>
        </p:blipFill>
        <p:spPr>
          <a:xfrm>
            <a:off x="4952880" y="1143000"/>
            <a:ext cx="2819520" cy="543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tibialowant"/>
          <p:cNvPicPr/>
          <p:nvPr/>
        </p:nvPicPr>
        <p:blipFill>
          <a:blip r:embed="rId2"/>
          <a:stretch/>
        </p:blipFill>
        <p:spPr>
          <a:xfrm>
            <a:off x="2209680" y="2209680"/>
            <a:ext cx="240660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Line 5"/>
          <p:cNvSpPr/>
          <p:nvPr/>
        </p:nvSpPr>
        <p:spPr>
          <a:xfrm>
            <a:off x="609480" y="5867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7619760" y="914400"/>
            <a:ext cx="685800" cy="685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4419720" y="762120"/>
            <a:ext cx="761760" cy="7617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295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5800" y="228600"/>
            <a:ext cx="6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quads"/>
          <p:cNvPicPr/>
          <p:nvPr/>
        </p:nvPicPr>
        <p:blipFill>
          <a:blip r:embed="rId1"/>
          <a:stretch/>
        </p:blipFill>
        <p:spPr>
          <a:xfrm>
            <a:off x="762120" y="457200"/>
            <a:ext cx="4535280" cy="53341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533520" y="3429000"/>
            <a:ext cx="17524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809880" y="2514600"/>
            <a:ext cx="152424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638680" y="52578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later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ectus femo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medi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267" name="Line 4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media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Medial lip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linea aspera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Inner half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57800" y="4495680"/>
            <a:ext cx="1447920" cy="3812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4419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3885840"/>
            <a:ext cx="4840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77488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3" descr="part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2860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3733920" y="1752480"/>
            <a:ext cx="1218960" cy="2057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238880" y="2666880"/>
            <a:ext cx="121932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4495680" y="32000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723888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57200" y="5181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= 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= Later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Medi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= Medial mi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70099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58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Fib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3049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Hea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Lateral mal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fibd"/>
          <p:cNvPicPr/>
          <p:nvPr/>
        </p:nvPicPr>
        <p:blipFill>
          <a:blip r:embed="rId1"/>
          <a:stretch/>
        </p:blipFill>
        <p:spPr>
          <a:xfrm>
            <a:off x="533520" y="2590920"/>
            <a:ext cx="3911400" cy="391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fibv"/>
          <p:cNvPicPr/>
          <p:nvPr/>
        </p:nvPicPr>
        <p:blipFill>
          <a:blip r:embed="rId2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93" name="Line 6"/>
          <p:cNvSpPr/>
          <p:nvPr/>
        </p:nvSpPr>
        <p:spPr>
          <a:xfrm>
            <a:off x="1219320" y="2743200"/>
            <a:ext cx="121896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5486400" y="2819520"/>
            <a:ext cx="12193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1143000" y="61722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914400" y="3049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Geneva"/>
              </a:rPr>
              <a:t>Semitendo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eneva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3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ame th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6172200" y="2971800"/>
            <a:ext cx="1828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5760" y="45252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ibi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tibd"/>
          <p:cNvPicPr/>
          <p:nvPr/>
        </p:nvPicPr>
        <p:blipFill>
          <a:blip r:embed="rId1"/>
          <a:stretch/>
        </p:blipFill>
        <p:spPr>
          <a:xfrm>
            <a:off x="457200" y="26668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ibv"/>
          <p:cNvPicPr/>
          <p:nvPr/>
        </p:nvPicPr>
        <p:blipFill>
          <a:blip r:embed="rId2"/>
          <a:stretch/>
        </p:blipFill>
        <p:spPr>
          <a:xfrm>
            <a:off x="472428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10" name="Line 6"/>
          <p:cNvSpPr/>
          <p:nvPr/>
        </p:nvSpPr>
        <p:spPr>
          <a:xfrm flipH="1">
            <a:off x="2666520" y="23623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5638680" y="1676520"/>
            <a:ext cx="609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447920" y="24382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9"/>
          <p:cNvSpPr/>
          <p:nvPr/>
        </p:nvSpPr>
        <p:spPr>
          <a:xfrm flipH="1">
            <a:off x="6934320" y="17524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1066680" y="6172200"/>
            <a:ext cx="83844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1"/>
          <p:cNvSpPr/>
          <p:nvPr/>
        </p:nvSpPr>
        <p:spPr>
          <a:xfrm flipH="1">
            <a:off x="6781320" y="5486400"/>
            <a:ext cx="7621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10720" y="304920"/>
            <a:ext cx="5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429000"/>
            <a:ext cx="3124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4723920"/>
            <a:ext cx="5562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452160"/>
            <a:ext cx="775800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eneva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1447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7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99840" y="18284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teral condy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tercondylar fos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5" descr="femur post"/>
          <p:cNvPicPr/>
          <p:nvPr/>
        </p:nvPicPr>
        <p:blipFill>
          <a:blip r:embed="rId1"/>
          <a:stretch/>
        </p:blipFill>
        <p:spPr>
          <a:xfrm>
            <a:off x="5181480" y="1828800"/>
            <a:ext cx="2990880" cy="391788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7238880" y="5029200"/>
            <a:ext cx="304920" cy="3049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934320" y="5410080"/>
            <a:ext cx="30456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5867280" y="5334120"/>
            <a:ext cx="304920" cy="3045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40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wo joint muscle; most superf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inferi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iliac spin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op of the patella and patellar ligament to the tib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lateralis</a:t>
            </a:r>
            <a:r>
              <a:rPr b="0" lang="en-US" sz="4400" spc="-1" strike="noStrike">
                <a:solidFill>
                  <a:srgbClr val="666600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56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Lateral lip of linea a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he lateral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vastus m"/>
          <p:cNvPicPr/>
          <p:nvPr/>
        </p:nvPicPr>
        <p:blipFill>
          <a:blip r:embed="rId1"/>
          <a:stretch/>
        </p:blipFill>
        <p:spPr>
          <a:xfrm>
            <a:off x="53341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562720" y="2362320"/>
            <a:ext cx="129528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intermed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Upper 2/3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anterior surfac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fem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Upper border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029200" y="3429000"/>
            <a:ext cx="16765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Picture 4" descr="quads"/>
          <p:cNvPicPr/>
          <p:nvPr/>
        </p:nvPicPr>
        <p:blipFill>
          <a:blip r:embed="rId1"/>
          <a:stretch/>
        </p:blipFill>
        <p:spPr>
          <a:xfrm>
            <a:off x="2590920" y="1523880"/>
            <a:ext cx="45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erior leg"/>
          <p:cNvPicPr/>
          <p:nvPr/>
        </p:nvPicPr>
        <p:blipFill>
          <a:blip r:embed="rId1"/>
          <a:stretch/>
        </p:blipFill>
        <p:spPr>
          <a:xfrm>
            <a:off x="685800" y="457200"/>
            <a:ext cx="1735200" cy="601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QuadricepsAnterior"/>
          <p:cNvPicPr/>
          <p:nvPr/>
        </p:nvPicPr>
        <p:blipFill>
          <a:blip r:embed="rId2"/>
          <a:stretch/>
        </p:blipFill>
        <p:spPr>
          <a:xfrm>
            <a:off x="6781680" y="380880"/>
            <a:ext cx="1703520" cy="616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tus femoris"/>
          <p:cNvPicPr/>
          <p:nvPr/>
        </p:nvPicPr>
        <p:blipFill>
          <a:blip r:embed="rId3"/>
          <a:stretch/>
        </p:blipFill>
        <p:spPr>
          <a:xfrm>
            <a:off x="3009960" y="380880"/>
            <a:ext cx="3124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7:38:40Z</dcterms:created>
  <dc:creator>Jake Emmett</dc:creator>
  <dc:description/>
  <dc:language>en-US</dc:language>
  <cp:lastModifiedBy>Andrew S. Hansell</cp:lastModifiedBy>
  <dcterms:modified xsi:type="dcterms:W3CDTF">2014-02-26T14:16:02Z</dcterms:modified>
  <cp:revision>71</cp:revision>
  <dc:subject/>
  <dc:title>THE KNEE JOINT</dc:title>
</cp:coreProperties>
</file>